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3C18-A276-479F-957E-7D65F74B21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23DB-6A94-49A3-8144-B118A94732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2214-7086-42CE-8235-5493BBFDAA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D68-B666-4E88-BD46-7132BA4C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6DB-772E-4486-BA7A-39992D4F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BDE-3407-4BF4-9867-EB84A59E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87D-1264-4E8E-88A8-B81CD145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587-0B91-4D2F-BFA5-3E572930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60B-0C60-404C-A19F-6AAD22FC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7D7-26A6-4804-A0CF-2BA17CE5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20B-47C1-4ED6-9C3A-0824484F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1EA-5DA0-4B42-820A-47F8F69F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AE4-4F8C-4A45-9FDA-D98F6A31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96F-D6D9-4CF2-9103-9BC6E9B8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EFC6-FBCF-4145-B62E-8EBDBFE8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3505-67C3-4713-AC0B-580A46ED20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357120" y="642960"/>
            <a:ext cx="84297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Monotype Corsiva"/>
              </a:rPr>
              <a:t>Если  вы  хотите  участвовать  в  большой жизни, то наполняйте  свою  голову  математикой, пока  есть  к  тому возможность. Она  окажет  вам  потом  огромную  помощь  во  всей  вашей  работе.</a:t>
            </a:r>
            <a:br>
              <a:rPr sz="4800"/>
            </a:b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                          </a:t>
            </a:r>
            <a:r>
              <a:rPr b="0" lang="ru-RU" sz="4800" spc="-1" strike="noStrike">
                <a:solidFill>
                  <a:srgbClr val="1f497d"/>
                </a:solidFill>
                <a:latin typeface="Monotype Corsiva"/>
              </a:rPr>
              <a:t>( М.И.Калинин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00040" y="1000080"/>
            <a:ext cx="3571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2 – </a:t>
            </a:r>
            <a:r>
              <a:rPr b="1" lang="en-US" sz="3600" spc="-1" strike="noStrike">
                <a:solidFill>
                  <a:srgbClr val="660066"/>
                </a:solidFill>
                <a:latin typeface="Georgia"/>
              </a:rPr>
              <a:t>(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7/4</a:t>
            </a:r>
            <a:r>
              <a:rPr b="1" lang="en-US" sz="3600" spc="-1" strike="noStrike">
                <a:solidFill>
                  <a:srgbClr val="660066"/>
                </a:solidFill>
                <a:latin typeface="Georgia"/>
              </a:rPr>
              <a:t>)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х = 4/3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2х -7/2 = 7/2</a:t>
            </a:r>
            <a:r>
              <a:rPr b="0" lang="ru-RU" sz="3600" spc="-1" strike="noStrike">
                <a:solidFill>
                  <a:srgbClr val="660066"/>
                </a:solidFill>
                <a:latin typeface="Georg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0,5х – 2,5 = 3/2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Georgia"/>
              </a:rPr>
              <a:t>  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1 + </a:t>
            </a:r>
            <a:r>
              <a:rPr b="1" lang="en-US" sz="3600" spc="-1" strike="noStrike">
                <a:solidFill>
                  <a:srgbClr val="660066"/>
                </a:solidFill>
                <a:latin typeface="Georgia"/>
              </a:rPr>
              <a:t>(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7/3</a:t>
            </a:r>
            <a:r>
              <a:rPr b="1" lang="en-US" sz="3600" spc="-1" strike="noStrike">
                <a:solidFill>
                  <a:srgbClr val="660066"/>
                </a:solidFill>
                <a:latin typeface="Georgia"/>
              </a:rPr>
              <a:t>)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х = 7/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-176040"/>
            <a:ext cx="8242560" cy="1577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2 – </a:t>
            </a:r>
            <a:r>
              <a:rPr b="1" lang="en-US" sz="2800" spc="-1" strike="noStrike">
                <a:solidFill>
                  <a:srgbClr val="660066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7/4</a:t>
            </a:r>
            <a:r>
              <a:rPr b="1" lang="en-US" sz="2800" spc="-1" strike="noStrike">
                <a:solidFill>
                  <a:srgbClr val="660066"/>
                </a:solidFill>
                <a:latin typeface="Georgia"/>
              </a:rPr>
              <a:t>)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х = 4/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2х -7/2 = 7/2</a:t>
            </a:r>
            <a:r>
              <a:rPr b="0" lang="ru-RU" sz="2800" spc="-1" strike="noStrike">
                <a:solidFill>
                  <a:srgbClr val="660066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0,5х – 2,5 = 3/2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1 + </a:t>
            </a:r>
            <a:r>
              <a:rPr b="1" lang="en-US" sz="2800" spc="-1" strike="noStrike">
                <a:solidFill>
                  <a:srgbClr val="660066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7/3</a:t>
            </a:r>
            <a:r>
              <a:rPr b="1" lang="en-US" sz="2800" spc="-1" strike="noStrike">
                <a:solidFill>
                  <a:srgbClr val="660066"/>
                </a:solidFill>
                <a:latin typeface="Georgia"/>
              </a:rPr>
              <a:t>)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х = 7/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 = 3,5                -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 = 6/35              -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 = 8                   - 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 = 8/21              - 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Овальная выноска 1"/>
          <p:cNvSpPr/>
          <p:nvPr/>
        </p:nvSpPr>
        <p:spPr>
          <a:xfrm>
            <a:off x="428760" y="285840"/>
            <a:ext cx="8143920" cy="61434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Василисе Премудрой исполнилось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Кощей Бессмертный решил взять её в ж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Василиса спросила сколько у Кощея сунду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с золотом. Кощей Бессмертный ответил, что 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него 27360 сундуков полных золота, и кажд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год прибавляется еще по 33 сунд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Василиса Премудрая  обещала выйти заму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за Кощея тогда, когда у него будет 3000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сундука полных зо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Сколько лет  будет невесте Кощея в д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свадь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Облако 1"/>
          <p:cNvSpPr/>
          <p:nvPr/>
        </p:nvSpPr>
        <p:spPr>
          <a:xfrm>
            <a:off x="214200" y="428760"/>
            <a:ext cx="8643960" cy="557208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 rot="21228000">
            <a:off x="2284200" y="1328760"/>
            <a:ext cx="4572000" cy="30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Georgia"/>
              </a:rPr>
              <a:t>Кощей Бессмертный родился в 1123 год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Georgia"/>
              </a:rPr>
              <a:t>а паспорт получ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Georgia"/>
              </a:rPr>
              <a:t>только в 2007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Georgia"/>
              </a:rPr>
              <a:t>Сколько лет прожил Кощей Бессмерт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Georgia"/>
              </a:rPr>
              <a:t>без паспо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0" y="4429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Всем спасибо. Урок окончен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857160" y="1643040"/>
            <a:ext cx="7542360" cy="464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214280" y="2901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Stylo"/>
                <a:ea typeface="Calibri"/>
              </a:rPr>
              <a:t>Решите  ребу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071720" y="1285920"/>
            <a:ext cx="71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04a7b"/>
                </a:solidFill>
                <a:latin typeface="Monotype Corsiva"/>
              </a:rPr>
              <a:t>Игр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04a7b"/>
                </a:solidFill>
                <a:latin typeface="Monotype Corsiva"/>
              </a:rPr>
              <a:t>«Звездный час дроби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Замок кроссвордны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4029120" cy="43574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4436640" y="74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285920" y="3071880"/>
            <a:ext cx="155520" cy="13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4572000" y="1428840"/>
            <a:ext cx="2928960" cy="1928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4500720" y="3500280"/>
            <a:ext cx="42703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626436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143000" y="785880"/>
            <a:ext cx="671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eef4"/>
                </a:solidFill>
                <a:latin typeface="Calibri"/>
              </a:rPr>
              <a:t>Выразить в десятичных дробя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eef4"/>
                </a:solidFill>
                <a:latin typeface="Calibri"/>
              </a:rPr>
              <a:t>4/5;   1/4;   2/4;   17/5;   12/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eef4"/>
                </a:solidFill>
                <a:latin typeface="Calibri"/>
              </a:rPr>
              <a:t>Какая из дробей выражает четверть?  половину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eef4"/>
                </a:solidFill>
                <a:latin typeface="Calibri"/>
              </a:rPr>
              <a:t>Покажите неправильные дроб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право 2"/>
          <p:cNvSpPr/>
          <p:nvPr/>
        </p:nvSpPr>
        <p:spPr>
          <a:xfrm rot="20958000">
            <a:off x="485640" y="571680"/>
            <a:ext cx="3857760" cy="12855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,4 - 9х = 1,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3"/>
          <p:cNvSpPr/>
          <p:nvPr/>
        </p:nvSpPr>
        <p:spPr>
          <a:xfrm rot="20958000">
            <a:off x="3800520" y="1346040"/>
            <a:ext cx="385776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х + х + 0,6 = 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4"/>
          <p:cNvSpPr/>
          <p:nvPr/>
        </p:nvSpPr>
        <p:spPr>
          <a:xfrm>
            <a:off x="2428920" y="2928960"/>
            <a:ext cx="385776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3500280" y="3286080"/>
                <a:ext cx="295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"/>
              <p:cNvSpPr txBox="1"/>
              <p:nvPr/>
            </p:nvSpPr>
            <p:spPr>
              <a:xfrm>
                <a:off x="4429080" y="3286080"/>
                <a:ext cx="142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717000" y="335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717800" y="342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1"/>
          <p:cNvGrpSpPr/>
          <p:nvPr/>
        </p:nvGrpSpPr>
        <p:grpSpPr>
          <a:xfrm>
            <a:off x="1214280" y="1857240"/>
            <a:ext cx="3889080" cy="4606560"/>
            <a:chOff x="1214280" y="1857240"/>
            <a:chExt cx="3889080" cy="4606560"/>
          </a:xfrm>
        </p:grpSpPr>
        <p:sp>
          <p:nvSpPr>
            <p:cNvPr id="70" name="Oval 12"/>
            <p:cNvSpPr/>
            <p:nvPr/>
          </p:nvSpPr>
          <p:spPr>
            <a:xfrm>
              <a:off x="1572840" y="5959440"/>
              <a:ext cx="1080360" cy="431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3e3e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3"/>
            <p:cNvSpPr/>
            <p:nvPr/>
          </p:nvSpPr>
          <p:spPr>
            <a:xfrm>
              <a:off x="3589560" y="6032520"/>
              <a:ext cx="1150200" cy="431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3e3e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14"/>
            <p:cNvGrpSpPr/>
            <p:nvPr/>
          </p:nvGrpSpPr>
          <p:grpSpPr>
            <a:xfrm>
              <a:off x="1214280" y="1857240"/>
              <a:ext cx="3889080" cy="4463280"/>
              <a:chOff x="1214280" y="1857240"/>
              <a:chExt cx="3889080" cy="4463280"/>
            </a:xfrm>
          </p:grpSpPr>
          <p:sp>
            <p:nvSpPr>
              <p:cNvPr id="73" name="AutoShape 15"/>
              <p:cNvSpPr/>
              <p:nvPr/>
            </p:nvSpPr>
            <p:spPr>
              <a:xfrm rot="20460000">
                <a:off x="1356480" y="2723400"/>
                <a:ext cx="288360" cy="648720"/>
              </a:xfrm>
              <a:prstGeom prst="flowChartExtra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16"/>
              <p:cNvSpPr/>
              <p:nvPr/>
            </p:nvSpPr>
            <p:spPr>
              <a:xfrm rot="1140000">
                <a:off x="2079000" y="2648880"/>
                <a:ext cx="358560" cy="6476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17"/>
              <p:cNvSpPr/>
              <p:nvPr/>
            </p:nvSpPr>
            <p:spPr>
              <a:xfrm rot="900000">
                <a:off x="4659120" y="2502720"/>
                <a:ext cx="296640" cy="802800"/>
              </a:xfrm>
              <a:prstGeom prst="triangle">
                <a:avLst>
                  <a:gd name="adj" fmla="val 10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18"/>
              <p:cNvSpPr/>
              <p:nvPr/>
            </p:nvSpPr>
            <p:spPr>
              <a:xfrm rot="21180000">
                <a:off x="4248000" y="2504160"/>
                <a:ext cx="288720" cy="792000"/>
              </a:xfrm>
              <a:prstGeom prst="triangle">
                <a:avLst>
                  <a:gd name="adj" fmla="val 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19"/>
              <p:cNvSpPr/>
              <p:nvPr/>
            </p:nvSpPr>
            <p:spPr>
              <a:xfrm>
                <a:off x="2942280" y="1857240"/>
                <a:ext cx="286920" cy="936360"/>
              </a:xfrm>
              <a:prstGeom prst="triangle">
                <a:avLst>
                  <a:gd name="adj" fmla="val 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20"/>
              <p:cNvSpPr/>
              <p:nvPr/>
            </p:nvSpPr>
            <p:spPr>
              <a:xfrm>
                <a:off x="3446640" y="1857240"/>
                <a:ext cx="215640" cy="936360"/>
              </a:xfrm>
              <a:prstGeom prst="triangle">
                <a:avLst>
                  <a:gd name="adj" fmla="val 9044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21"/>
              <p:cNvGrpSpPr/>
              <p:nvPr/>
            </p:nvGrpSpPr>
            <p:grpSpPr>
              <a:xfrm>
                <a:off x="1214280" y="2648880"/>
                <a:ext cx="3889080" cy="3671640"/>
                <a:chOff x="1214280" y="2648880"/>
                <a:chExt cx="3889080" cy="3671640"/>
              </a:xfrm>
            </p:grpSpPr>
            <p:grpSp>
              <p:nvGrpSpPr>
                <p:cNvPr id="80" name="Group 22"/>
                <p:cNvGrpSpPr/>
                <p:nvPr/>
              </p:nvGrpSpPr>
              <p:grpSpPr>
                <a:xfrm>
                  <a:off x="1214280" y="2648880"/>
                  <a:ext cx="3889080" cy="1583280"/>
                  <a:chOff x="1214280" y="2648880"/>
                  <a:chExt cx="3889080" cy="1583280"/>
                </a:xfrm>
              </p:grpSpPr>
              <p:sp>
                <p:nvSpPr>
                  <p:cNvPr id="81" name="AutoShape 23"/>
                  <p:cNvSpPr/>
                  <p:nvPr/>
                </p:nvSpPr>
                <p:spPr>
                  <a:xfrm>
                    <a:off x="2581920" y="2648880"/>
                    <a:ext cx="1440720" cy="100764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107932" dir="18900000" blurRad="0" rotWithShape="0">
                      <a:srgbClr val="3e3e5c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AutoShape 24"/>
                  <p:cNvSpPr/>
                  <p:nvPr/>
                </p:nvSpPr>
                <p:spPr>
                  <a:xfrm>
                    <a:off x="3949920" y="3153600"/>
                    <a:ext cx="1153440" cy="1078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107932" dir="18900000" blurRad="0" rotWithShape="0">
                      <a:srgbClr val="3e3e5c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25"/>
                  <p:cNvSpPr/>
                  <p:nvPr/>
                </p:nvSpPr>
                <p:spPr>
                  <a:xfrm>
                    <a:off x="1214280" y="3153600"/>
                    <a:ext cx="1367640" cy="100728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107932" dir="18900000" blurRad="0" rotWithShape="0">
                      <a:srgbClr val="3e3e5c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" name="AutoShape 26"/>
                <p:cNvSpPr/>
                <p:nvPr/>
              </p:nvSpPr>
              <p:spPr>
                <a:xfrm>
                  <a:off x="1574280" y="3656520"/>
                  <a:ext cx="3167280" cy="2664000"/>
                </a:xfrm>
                <a:custGeom>
                  <a:avLst/>
                  <a:gdLst>
                    <a:gd name="textAreaLeft" fmla="*/ 722880 w 3167280"/>
                    <a:gd name="textAreaRight" fmla="*/ 2444400 w 3167280"/>
                    <a:gd name="textAreaTop" fmla="*/ 608040 h 2664000"/>
                    <a:gd name="textAreaBottom" fmla="*/ 2055960 h 2664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60597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" name="Прямоугольник 19"/>
          <p:cNvSpPr/>
          <p:nvPr/>
        </p:nvSpPr>
        <p:spPr>
          <a:xfrm rot="20464800">
            <a:off x="284040" y="708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Georgia"/>
              </a:rPr>
              <a:t>Известно ли вам, что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Georgia"/>
              </a:rPr>
              <a:t>минуту человек успевает написать столько букв, что длина строки из этих букв будет равна 14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0"/>
          <p:cNvSpPr/>
          <p:nvPr/>
        </p:nvSpPr>
        <p:spPr>
          <a:xfrm rot="20640000">
            <a:off x="4142880" y="832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Умножьте число букв на 0,00033 г –именно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только 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весит одна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у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1"/>
          <p:cNvSpPr/>
          <p:nvPr/>
        </p:nvSpPr>
        <p:spPr>
          <a:xfrm rot="20642400">
            <a:off x="4427640" y="2643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Хотите узн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сколько ве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   </a:t>
            </a: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ваше им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    </a:t>
            </a: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фамил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11"/>
          <p:cNvSpPr/>
          <p:nvPr/>
        </p:nvSpPr>
        <p:spPr>
          <a:xfrm>
            <a:off x="3857760" y="3143160"/>
            <a:ext cx="1357200" cy="135756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0,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12"/>
          <p:cNvSpPr/>
          <p:nvPr/>
        </p:nvSpPr>
        <p:spPr>
          <a:xfrm>
            <a:off x="3857760" y="1500120"/>
            <a:ext cx="1214280" cy="1214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0,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13"/>
          <p:cNvSpPr/>
          <p:nvPr/>
        </p:nvSpPr>
        <p:spPr>
          <a:xfrm>
            <a:off x="5643720" y="2286000"/>
            <a:ext cx="1285560" cy="12859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6"/>
          <p:cNvSpPr/>
          <p:nvPr/>
        </p:nvSpPr>
        <p:spPr>
          <a:xfrm>
            <a:off x="2357280" y="414324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7/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7"/>
          <p:cNvSpPr/>
          <p:nvPr/>
        </p:nvSpPr>
        <p:spPr>
          <a:xfrm>
            <a:off x="5500800" y="428616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5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8"/>
          <p:cNvSpPr/>
          <p:nvPr/>
        </p:nvSpPr>
        <p:spPr>
          <a:xfrm>
            <a:off x="2143080" y="235728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3,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9"/>
          <p:cNvSpPr/>
          <p:nvPr/>
        </p:nvSpPr>
        <p:spPr>
          <a:xfrm>
            <a:off x="3857760" y="492912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5/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214280" y="571680"/>
            <a:ext cx="6357960" cy="1312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ополнить  до  еди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справка 21"/>
          <p:cNvSpPr/>
          <p:nvPr/>
        </p:nvSpPr>
        <p:spPr>
          <a:xfrm>
            <a:off x="771516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0" y="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Археологи далёкого будущего когда–нибудь раскопают два окаменевших дневника с большим количеством окаменевших двоек. В Колином дневнике они найдут 224 окаменевших двойки, а в Толином ¼ числа этих двоек. Сколько всего окаменевших двоек  найдут археологи в двух дневни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7:44:44Z</dcterms:created>
  <dc:creator>Эльвина</dc:creator>
  <dc:description/>
  <dc:language>en-US</dc:language>
  <cp:lastModifiedBy>Эльвина</cp:lastModifiedBy>
  <dcterms:modified xsi:type="dcterms:W3CDTF">2012-01-25T19:41:35Z</dcterms:modified>
  <cp:revision>21</cp:revision>
  <dc:subject/>
  <dc:title>Слайд 1</dc:title>
</cp:coreProperties>
</file>